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media/arrow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E79-9695-483C-8AB3-0E148399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D51-B18A-4457-8280-435F954B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3F8-2397-42AC-AD7B-EB5E871F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BED-2157-4887-BDA3-99AB18E9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84D-A73B-4001-B646-AD2CD22A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6370-8EEB-467C-B821-DF36F2C3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1C7-7996-4930-83B0-6161CF3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4B11-6E07-46ED-A167-FAEB3FE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7942-CAE7-40FF-AC70-55BB855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3A7C-D709-477F-ABB3-7A79261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9391-7065-4BC8-8785-0B0741E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8AD-E9F1-4FEB-9021-FD614469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387-52EC-423F-9C5C-8C3D2AE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2B30-9EFA-4174-B15B-9094159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6EF-740C-471D-A920-9BA7772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6D73-7106-4426-B4FD-2B5E193B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C9BC-0EF8-413B-9BAB-27811E28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406-02C6-4512-846F-76812347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70B-5E3C-4CA8-B8DF-47257794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20C-9BCB-4BBE-B503-9EDD93AE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B35-19A8-4A29-BDCB-339EEEAE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0D2-1C5B-459F-8263-6BFE1CF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870-02A7-4AA2-A82A-0E67EEE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887-E03F-4AAA-8FF5-9BC6C63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FF2-3F62-48BD-91CE-3CBE258E60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0EC1-D168-4EAC-B676-A75A44DCF3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824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V- Highways and Road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- Air Transpo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laces in Russia. For example, there are rivers lik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Volga River, Ob River, and the Lena River. Sea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d oceans that border Russia include the Balt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ea, Sea of Okhotsk, and the Bering Se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430020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Kaliningrad-St. Petersburg-Okhotsk- Murmans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Vladivostok-Astrakhan-Petropavlovsk Kamchatsk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 problem with these ports is that they ar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paced far apart from each other. Ships have 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vel another 200 miles to get the most inland par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of Russia, where Kaliningrad is located. Th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pers have the choice to travel another 5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 to the port of St. Petersburg. This consum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ots of time,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uel, and therefore money. However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axes have been cut for foreign  goods coming in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, saving money, and possibly increasin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d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 called a icebreaker is used to separate the ic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s mostly state-run. Russian Railways is one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ggest railway companies in the world, with 0.95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lion employees, a monopoly within it. In fact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otal length of the line is 85,000 kilometers( 53,130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), only surpassed by the United States railw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ystem. In 2007, 1.3 billion passengers and 1.3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Pipeline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Rail transport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History of Rail Transport in Russi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21T00:02:31Z</dcterms:modified>
  <cp:revision>32</cp:revision>
  <dc:subject/>
  <dc:title> </dc:title>
</cp:coreProperties>
</file>